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2588-84EF-4A18-A20B-09A5A0C0F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AA84-FA34-48F3-980F-0BD143E6931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7F33-88B5-410F-81C1-2F43E084838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8BE5-C42E-47E2-9754-51D655D2158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8FEA-1C18-4D29-BAF6-514371A47F5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3E34-D0DE-4CA8-BCCD-7E711D49382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4661-0E06-4C17-A052-C705B64F3A4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BC6-D030-418B-BD6B-E8BC7A476AB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DAD0-5BF8-474D-9128-4670BA44329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A71-6280-4AD8-86C4-A7BA09292EA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F36F-CAD7-4FDB-AC2C-7861A1B9ADD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1EE7-534F-4951-984C-AEB5C5A34F0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6E7-3A0E-4EE5-A668-A6AE7F84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376-1778-4EDE-B5A7-8206E0F9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6FA-3428-4AA7-8EA5-34FF0067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1B1-04EF-4884-9E69-98C2FCFD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472-C8D6-42D8-ACE4-EFBFF481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9EE-B512-4AC1-A11E-E8497390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51F-EA23-4508-8608-435E6556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89C-1CC9-4BA6-9204-97434D40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B6E-854C-4DEB-8D25-531486C9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B74-17A7-4094-8FF0-4E6E6E28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F33-5381-491C-BB4E-B1587843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3BE-4908-47A6-B0F5-5F6962F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F515-4CC0-4AAF-9D4B-DF2D256335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779E-9827-472B-8622-6DD9B1FB4E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58FB-32FC-464F-85BA-57CF317A3E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2094-6A70-425C-AC17-537E174BB5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„reprint author“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D89C-8A44-410B-94A9-E02D3EF9E2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změ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721E-1AB5-4797-B1C8-31E1367592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2536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98472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611280" y="461952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, národní úroveň, gesce RV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délník 9"/>
          <p:cNvSpPr/>
          <p:nvPr/>
        </p:nvSpPr>
        <p:spPr>
          <a:xfrm>
            <a:off x="4859280" y="45813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3+M4+M5 (úroveň poskytovate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5218-0E44-4BB3-8BCA-687D83D968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79640" y="1483920"/>
            <a:ext cx="4679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3 + M4 + M5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-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konkrétní podoby M1+M2 bude zahájeno po zformulování doporučení plynoucích z Hodnocení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ovéPole 6"/>
          <p:cNvSpPr/>
          <p:nvPr/>
        </p:nvSpPr>
        <p:spPr>
          <a:xfrm>
            <a:off x="395280" y="26028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65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délník 15" descr=""/>
            <p:cNvPicPr/>
            <p:nvPr/>
          </p:nvPicPr>
          <p:blipFill>
            <a:blip r:embed="rId1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Obdélník 16" descr=""/>
            <p:cNvPicPr/>
            <p:nvPr/>
          </p:nvPicPr>
          <p:blipFill>
            <a:blip r:embed="rId2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Obdélník 17" descr=""/>
            <p:cNvPicPr/>
            <p:nvPr/>
          </p:nvPicPr>
          <p:blipFill>
            <a:blip r:embed="rId3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BA18-9FBC-4319-BC2F-F00152164D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67120" y="1988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6"/>
          <p:cNvSpPr/>
          <p:nvPr/>
        </p:nvSpPr>
        <p:spPr>
          <a:xfrm>
            <a:off x="395280" y="333360"/>
            <a:ext cx="8064360" cy="9471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84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Obdélník 30" descr=""/>
            <p:cNvPicPr/>
            <p:nvPr/>
          </p:nvPicPr>
          <p:blipFill>
            <a:blip r:embed="rId1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Obdélník 31" descr=""/>
            <p:cNvPicPr/>
            <p:nvPr/>
          </p:nvPicPr>
          <p:blipFill>
            <a:blip r:embed="rId2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Obdélník 32" descr=""/>
            <p:cNvPicPr/>
            <p:nvPr/>
          </p:nvPicPr>
          <p:blipFill>
            <a:blip r:embed="rId3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3FF3-36BF-4BCA-9AC4-4CBC11BF50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5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982-E2F9-4384-A6EE-703A9769EF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829C-27C4-462D-A69F-DA404C212A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6905-A58E-4837-AC6A-51AA0CC576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18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26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31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35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Pravoúhlá spojnice 63"/>
            <p:cNvCxnSpPr>
              <a:stCxn id="128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2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7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5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C3DC-E17C-4D15-BDD9-D6F612324D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9-01-22T10:24:14Z</dcterms:modified>
  <cp:revision>167</cp:revision>
  <dc:subject/>
  <dc:title>Prezentace aplikace PowerPoint</dc:title>
</cp:coreProperties>
</file>